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wmf" ContentType="image/x-wmf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30.jpeg" ContentType="image/jpeg"/>
  <Override PartName="/ppt/media/image33.png" ContentType="image/png"/>
  <Override PartName="/ppt/media/image14.jpeg" ContentType="image/jpeg"/>
  <Override PartName="/ppt/media/image34.wmf" ContentType="image/x-wmf"/>
  <Override PartName="/ppt/media/image6.jpeg" ContentType="image/jpeg"/>
  <Override PartName="/ppt/media/image27.jpeg" ContentType="image/jpeg"/>
  <Override PartName="/ppt/media/image7.png" ContentType="image/png"/>
  <Override PartName="/ppt/media/image37.png" ContentType="image/png"/>
  <Override PartName="/ppt/media/image36.wmf" ContentType="image/x-wmf"/>
  <Override PartName="/ppt/media/image35.wmf" ContentType="image/x-wmf"/>
  <Override PartName="/ppt/media/image5.wmf" ContentType="image/x-wmf"/>
  <Override PartName="/ppt/media/image1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944-E98F-4F6F-8D90-A85F4BCA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D7A-E06F-4035-B73B-A58051E1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6E7-1215-4367-A6AC-F04CEE9B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A20-F6A8-4DDB-B22D-B3BF74B2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6A72-CD6D-4E1F-998E-FDB9D25D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7D27-32CA-47BD-B158-4B6C22CD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C83A-5EAC-4DE9-A2CC-1A2C59F4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11FD-6BC8-4D6A-BB75-DABC1A7C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F2A9-9C19-4F9E-9F3E-E38248BB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2DD9-3227-4E9F-8E9C-04F750A4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DD5C-6D6B-4EAE-A6F1-97C75ABA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3CE-4A62-4FA8-B1B1-82F9CB16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8D62-C033-427D-99C1-B1448C44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A306-D7FC-4861-8276-5F7B457F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564F-8312-43D3-B81D-4260E5ED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9356-112E-4967-BD14-C4AA7DFC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9320-40A6-4C12-8366-8CD0A2EA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C575-0864-4D20-B7E9-8D26E2B8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870-AB86-49FF-8F44-5A9FB446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898-5E4D-4E57-8F41-367A7622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2BE-BD64-48C7-B063-E53DEAA7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DFF9-E725-4398-8CAA-CF29A513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43D-D53B-49C5-920E-7F722938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5FB-A0A0-48A8-8118-CA3D98BC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6320" y="-76320"/>
            <a:ext cx="9372600" cy="1219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DA8F-FD0D-4696-B729-FB08A488F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3000" b="0"/>
          <a:stretch/>
        </p:blipFill>
        <p:spPr>
          <a:xfrm rot="20262000">
            <a:off x="-75960" y="41400"/>
            <a:ext cx="1524240" cy="117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A33E-ACD2-4EE1-8CF1-0E8370CD9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image" Target="../media/image36.wmf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1.png"/><Relationship Id="rId17" Type="http://schemas.openxmlformats.org/officeDocument/2006/relationships/image" Target="../media/image22.jpeg"/><Relationship Id="rId18" Type="http://schemas.openxmlformats.org/officeDocument/2006/relationships/image" Target="../media/image23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0" r="3035" b="0"/>
          <a:stretch/>
        </p:blipFill>
        <p:spPr>
          <a:xfrm rot="20262000">
            <a:off x="-609120" y="3086280"/>
            <a:ext cx="4876560" cy="3771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286000" y="4724280"/>
            <a:ext cx="4572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s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 2006, David J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zabeth Bart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elle C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mentine 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ha Rut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09480" y="1806120"/>
            <a:ext cx="79250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e learned in business school: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make money and have fu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15242" r="70325" b="32621"/>
          <a:stretch/>
        </p:blipFill>
        <p:spPr>
          <a:xfrm>
            <a:off x="2819520" y="593640"/>
            <a:ext cx="3429000" cy="7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 Efficient 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403884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of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toiletries b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sui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1148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datory items were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balance between casual and f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84582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360480" y="1563840"/>
            <a:ext cx="2702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Tube 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 Button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m Tank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T-Shi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k Sleeveless Bl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Bl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Mini Ski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J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an Sh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an Ski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haki Sh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ight J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Linen 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ver Miniski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lle Black Sun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pless Red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ppy Navy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>
            <a:lum contrast="-6000"/>
          </a:blip>
          <a:srcRect l="0" t="15082" r="3200" b="9601"/>
          <a:stretch/>
        </p:blipFill>
        <p:spPr>
          <a:xfrm>
            <a:off x="-152280" y="2819520"/>
            <a:ext cx="4038480" cy="4190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Should P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82080" y="1519920"/>
            <a:ext cx="1283040" cy="1092600"/>
            <a:chOff x="3682080" y="1519920"/>
            <a:chExt cx="1283040" cy="1092600"/>
          </a:xfrm>
        </p:grpSpPr>
        <p:grpSp>
          <p:nvGrpSpPr>
            <p:cNvPr id="165" name=""/>
            <p:cNvGrpSpPr/>
            <p:nvPr/>
          </p:nvGrpSpPr>
          <p:grpSpPr>
            <a:xfrm>
              <a:off x="3940200" y="1519920"/>
              <a:ext cx="1024920" cy="1092600"/>
              <a:chOff x="3940200" y="1519920"/>
              <a:chExt cx="1024920" cy="1092600"/>
            </a:xfrm>
          </p:grpSpPr>
          <p:pic>
            <p:nvPicPr>
              <p:cNvPr id="166" name="" descr=""/>
              <p:cNvPicPr/>
              <p:nvPr/>
            </p:nvPicPr>
            <p:blipFill>
              <a:blip r:embed="rId2"/>
              <a:stretch/>
            </p:blipFill>
            <p:spPr>
              <a:xfrm rot="1234800">
                <a:off x="4038840" y="1599840"/>
                <a:ext cx="577440" cy="66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3"/>
              <a:stretch/>
            </p:blipFill>
            <p:spPr>
              <a:xfrm rot="2880600">
                <a:off x="4235040" y="1841760"/>
                <a:ext cx="577800" cy="666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8" name="" descr=""/>
            <p:cNvPicPr/>
            <p:nvPr/>
          </p:nvPicPr>
          <p:blipFill>
            <a:blip r:embed="rId4"/>
            <a:stretch/>
          </p:blipFill>
          <p:spPr>
            <a:xfrm rot="528000">
              <a:off x="3733560" y="1739880"/>
              <a:ext cx="62712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7545240" y="1685520"/>
            <a:ext cx="984600" cy="824760"/>
            <a:chOff x="7545240" y="1685520"/>
            <a:chExt cx="984600" cy="824760"/>
          </a:xfrm>
        </p:grpSpPr>
        <p:pic>
          <p:nvPicPr>
            <p:cNvPr id="170" name="" descr=""/>
            <p:cNvPicPr/>
            <p:nvPr/>
          </p:nvPicPr>
          <p:blipFill>
            <a:blip r:embed="rId5"/>
            <a:stretch/>
          </p:blipFill>
          <p:spPr>
            <a:xfrm rot="1219800">
              <a:off x="7924680" y="1752120"/>
              <a:ext cx="5047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6"/>
            <a:stretch/>
          </p:blipFill>
          <p:spPr>
            <a:xfrm rot="20813400">
              <a:off x="7620120" y="1752480"/>
              <a:ext cx="46656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6400800" y="297180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5029200" y="541008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rcRect l="0" t="23077" r="4551" b="28205"/>
          <a:stretch/>
        </p:blipFill>
        <p:spPr>
          <a:xfrm>
            <a:off x="6095880" y="5105520"/>
            <a:ext cx="838440" cy="514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0"/>
          <a:stretch/>
        </p:blipFill>
        <p:spPr>
          <a:xfrm>
            <a:off x="7620120" y="4572000"/>
            <a:ext cx="1031760" cy="1752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1"/>
          <a:stretch/>
        </p:blipFill>
        <p:spPr>
          <a:xfrm>
            <a:off x="4343400" y="2971800"/>
            <a:ext cx="1263600" cy="1752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2"/>
          <a:stretch/>
        </p:blipFill>
        <p:spPr>
          <a:xfrm>
            <a:off x="5410080" y="1447920"/>
            <a:ext cx="1344600" cy="1447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809880" y="1563840"/>
            <a:ext cx="2667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se/B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ile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y Green Long Sh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Cap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hing S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&amp; White Pu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P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Strappy Sand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Ballet Sli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 W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Halter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56996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agaz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&amp; Work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3"/>
          <a:stretch/>
        </p:blipFill>
        <p:spPr>
          <a:xfrm>
            <a:off x="8153280" y="3429000"/>
            <a:ext cx="457200" cy="326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4">
            <a:lum contrast="-6000"/>
          </a:blip>
          <a:srcRect l="0" t="67123" r="3200" b="9601"/>
          <a:stretch/>
        </p:blipFill>
        <p:spPr>
          <a:xfrm>
            <a:off x="-152280" y="5715000"/>
            <a:ext cx="40384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78035E-007 C -0.00209 -0.01156 -0.00417 -0.01919 -0.00677 -0.02451 C -0.00886 -0.03306 -0.01077 -0.03815 -0.01337 -0.04208 C -0.01736 -0.05919 -0.02205 -0.0659 -0.02657 -0.07699 C -0.03768 -0.10405 -0.04896 -0.11931 -0.06059 -0.13642 C -0.0625 -0.13919 -0.06424 -0.1385 -0.06598 -0.14035 C -0.07084 -0.14381 -0.08039 -0.14983 -0.08039 -0.14959 C -0.09445 -0.14728 -0.09931 -0.14428 -0.11094 -0.13295 C -0.11216 -0.13064 -0.11337 -0.12717 -0.11459 -0.12578 C -0.11702 -0.12277 -0.12188 -0.11907 -0.12188 -0.11815 C -0.12796 -0.10451 -0.13421 -0.0904 -0.14046 -0.07699 C -0.14375 -0.07006 -0.14375 -0.07214 -0.14653 -0.06266 C -0.1507 -0.04879 -0.15643 -0.01919 -0.16077 -0.01087 C -0.16285 0.00162 -0.16875 0.02705 -0.17171 0.03515 C -0.17535 0.06936 -0.16962 0.02104 -0.17518 0.05295 C -0.17587 0.05642 -0.17587 0.06243 -0.17639 0.06682 C -0.17691 0.06983 -0.17761 0.07098 -0.17813 0.07376 C -0.17934 0.08046 -0.18021 0.08832 -0.18125 0.0948 C -0.18212 0.11098 -0.18421 0.12139 -0.18542 0.13688 C -0.18629 0.14705 -0.18698 0.15838 -0.18785 0.16856 C -0.19011 0.19954 -0.19063 0.23121 -0.19393 0.25965 C -0.1948 0.28231 -0.19688 0.3022 -0.19861 0.32278 C -0.19983 0.33711 -0.2 0.34867 -0.20226 0.36116 C -0.20348 0.37595 -0.20434 0.39006 -0.20591 0.40301 C -0.20695 0.42104 -0.20816 0.43908 -0.21007 0.45572 C -0.21077 0.47353 -0.21146 0.49087 -0.21233 0.50775 C -0.21302 0.51908 -0.21424 0.52902 -0.21424 0.53988 C -0.21424 0.56393 -0.21424 0.58752 -0.21424 0.61087 E">
                                      <p:cBhvr>
                                        <p:cTn id="90" dur="1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3.05556E-006 1.90751E-006 C -0.01059 -0.00347 -0.02118 -0.00716 -0.03177 -0.01063 C -0.03455 -0.01156 -0.03698 -0.0141 -0.03976 -0.0148 C -0.05486 -0.01849 -0.07205 -0.01965 -0.08733 -0.02127 C -0.15295 -0.02058 -0.21858 -0.02127 -0.2842 -0.01919 C -0.28611 -0.01919 -0.28715 -0.01572 -0.28889 -0.0148 C -0.29202 -0.01341 -0.29531 -0.01341 -0.29844 -0.01271 C -0.30868 -0.0037 -0.32084 0.00301 -0.33177 0.01041 C -0.33386 0.01179 -0.33629 0.01272 -0.33802 0.0148 C -0.34462 0.02312 -0.34965 0.02729 -0.35868 0.0296 C -0.37379 0.04255 -0.39115 0.05457 -0.40799 0.06336 C -0.4184 0.07723 -0.40643 0.06336 -0.4191 0.07191 C -0.42136 0.07353 -0.42309 0.0763 -0.42535 0.07815 C -0.42743 0.07977 -0.42969 0.08093 -0.43177 0.08231 C -0.43681 0.08925 -0.44531 0.09619 -0.45243 0.09919 C -0.46268 0.10983 -0.4724 0.12116 -0.4842 0.12879 C -0.49358 0.14151 -0.48837 0.13827 -0.49844 0.14151 C -0.50347 0.14844 -0.50764 0.15191 -0.51424 0.1563 C -0.51945 0.16648 -0.52656 0.16648 -0.53334 0.17549 C -0.54271 0.18798 -0.55521 0.19769 -0.56354 0.21133 C -0.56893 0.22012 -0.57535 0.22775 -0.5809 0.23677 C -0.58594 0.24486 -0.58976 0.25434 -0.59531 0.26197 C -0.59844 0.26613 -0.60191 0.27006 -0.60469 0.27468 C -0.61163 0.28694 -0.61719 0.29942 -0.62535 0.31075 C -0.62969 0.32763 -0.63542 0.34451 -0.64288 0.35931 C -0.64479 0.37249 -0.64948 0.38428 -0.65556 0.39515 C -0.65851 0.4148 -0.66788 0.43237 -0.67465 0.45018 C -0.67743 0.45781 -0.67795 0.46497 -0.68247 0.47145 C -0.68715 0.49573 -0.69254 0.51954 -0.69844 0.54312 C -0.70643 0.57549 -0.70799 0.61318 -0.70799 0.64671 L -0.70643 0.62983 E">
                                      <p:cBhvr>
                                        <p:cTn id="92" dur="14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2.77778E-007 -6.99422E-006 C -0.0467 -0.01735 -0.01042 -0.00463 -0.13334 -6.99422E-006 C -0.14757 0.00046 -0.17605 0.00416 -0.17605 0.00416 C -0.22379 0.01456 -0.26858 0.03514 -0.31424 0.05479 C -0.32153 0.0615 -0.33681 0.06728 -0.34601 0.06959 C -0.35417 0.07537 -0.36285 0.07606 -0.37136 0.08023 C -0.39219 0.0904 -0.41337 0.10288 -0.4349 0.10982 C -0.44011 0.11329 -0.4467 0.11791 -0.45226 0.12046 C -0.45834 0.12323 -0.46528 0.12392 -0.47136 0.1267 C -0.47952 0.13017 -0.48368 0.13525 -0.49202 0.13734 C -0.49827 0.14288 -0.50452 0.14566 -0.51111 0.15005 C -0.5191 0.15537 -0.52674 0.16161 -0.5349 0.16693 C -0.54566 0.17387 -0.55973 0.18936 -0.56823 0.20069 C -0.58021 0.21664 -0.59514 0.22982 -0.60782 0.24508 C -0.6158 0.25456 -0.61841 0.26242 -0.62535 0.2726 C -0.63368 0.28462 -0.63907 0.29317 -0.64601 0.30635 C -0.64879 0.31167 -0.65 0.31075 -0.65382 0.31491 C -0.65643 0.31768 -0.66789 0.33664 -0.6698 0.34242 C -0.67639 0.363 -0.67761 0.3882 -0.67934 0.40994 C -0.68091 0.44947 -0.68091 0.43537 -0.68091 0.45225 E">
                                      <p:cBhvr>
                                        <p:cTn id="94" dur="19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-3.33333E-006 0.0659 C -0.00156 0.05503 -0.00295 0.05018 -0.00746 0.04255 C -0.01007 0.02844 -0.00816 0.03676 -0.01458 0.01873 C -0.01909 0.00648 -0.02048 -0.0067 -0.02639 -0.0178 C -0.02968 -0.03399 -0.03698 -0.04347 -0.04253 -0.05688 C -0.04375 -0.06011 -0.04392 -0.06428 -0.04531 -0.06705 C -0.04652 -0.06959 -0.04861 -0.07029 -0.04982 -0.0726 C -0.05312 -0.07838 -0.05573 -0.08485 -0.05868 -0.09087 C -0.06024 -0.09387 -0.06145 -0.09803 -0.06302 -0.10104 C -0.06614 -0.10728 -0.07326 -0.1193 -0.07326 -0.11907 C -0.0776 -0.13549 -0.08524 -0.14613 -0.09236 -0.15861 C -0.09705 -0.1667 -0.10069 -0.17641 -0.10538 -0.18474 C -0.11614 -0.2037 -0.12934 -0.22266 -0.14201 -0.23699 C -0.16614 -0.26451 -0.2033 -0.27745 -0.23125 -0.28115 C -0.26666 -0.27907 -0.30121 -0.27167 -0.33663 -0.26821 C -0.34809 -0.26474 -0.35902 -0.25919 -0.37031 -0.25526 C -0.37309 -0.25433 -0.38038 -0.25225 -0.3835 -0.24994 C -0.39392 -0.24185 -0.40347 -0.23167 -0.41423 -0.22381 C -0.425 -0.20508 -0.41111 -0.22728 -0.42586 -0.21063 C -0.43107 -0.20485 -0.43559 -0.19445 -0.44062 -0.18728 C -0.45503 -0.16647 -0.46961 -0.14474 -0.48455 -0.12485 C -0.49444 -0.09688 -0.47777 -0.14127 -0.49323 -0.10913 C -0.5052 -0.08393 -0.48524 -0.1126 -0.50208 -0.09087 C -0.50538 -0.07861 -0.50972 -0.06913 -0.5151 -0.05942 C -0.52222 -0.03352 -0.53437 -0.01202 -0.54149 0.01364 C -0.54392 0.02197 -0.54548 0.03098 -0.54739 0.03954 C -0.54965 0.04994 -0.55555 0.06174 -0.55902 0.07098 C -0.56128 0.08902 -0.56684 0.09942 -0.57083 0.11561 C -0.5783 0.1452 -0.5875 0.17526 -0.59861 0.20162 C -0.60139 0.22752 -0.59774 0.20208 -0.60451 0.22775 C -0.61666 0.27399 -0.60468 0.23723 -0.61475 0.26682 C -0.61718 0.28347 -0.62187 0.29734 -0.625 0.31376 C -0.62777 0.32971 -0.62986 0.34682 -0.63524 0.36093 C -0.63819 0.40416 -0.63368 0.36278 -0.64097 0.39492 C -0.64201 0.39908 -0.64184 0.4037 -0.64253 0.40786 C -0.64323 0.41156 -0.64444 0.4148 -0.64548 0.41827 C -0.64705 0.4333 -0.65121 0.44994 -0.65121 0.46544 L -0.65416 0.49942 E">
                                      <p:cBhvr>
                                        <p:cTn id="96" dur="11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 -0.02358 C -0.00347 -0.05087 -0.00521 -0.07931 -0.0092 -0.10636 C -0.01146 -0.12254 -0.01233 -0.12093 -0.0151 -0.13619 C -0.02483 -0.18636 -0.03559 -0.23908 -0.05642 -0.27607 C -0.06997 -0.30035 -0.08472 -0.31353 -0.10069 -0.32948 C -0.10521 -0.33387 -0.1217 -0.33804 -0.12587 -0.33919 C -0.14045 -0.34312 -0.15451 -0.34705 -0.16927 -0.3489 C -0.18212 -0.34821 -0.20312 -0.34752 -0.21753 -0.3452 C -0.22396 -0.34405 -0.23663 -0.34104 -0.23663 -0.34081 C -0.24757 -0.33595 -0.2592 -0.33226 -0.26979 -0.32532 C -0.28368 -0.31676 -0.29653 -0.30428 -0.31007 -0.29572 C -0.31944 -0.28278 -0.33021 -0.27029 -0.33837 -0.25434 C -0.35677 -0.21827 -0.37205 -0.17827 -0.38767 -0.13804 C -0.4026 -0.09989 -0.4191 -0.0622 -0.42691 -0.01572 C -0.42778 -0.00324 -0.42899 0.00925 -0.42986 0.02173 C -0.43021 0.0474 -0.43038 0.07306 -0.4309 0.09873 C -0.43125 0.11191 -0.4375 0.13133 -0.43993 0.14405 C -0.44288 0.15815 -0.44375 0.17272 -0.44792 0.18566 C -0.44861 0.19214 -0.45 0.19884 -0.45 0.20532 E">
                                      <p:cBhvr>
                                        <p:cTn id="98" dur="12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1.11111E-006 -3.06358E-006 C -0.00608 -0.05826 -0.01337 -0.13595 -0.03976 -0.18404 C -0.04132 -0.18682 -0.04393 -0.18844 -0.04601 -0.19029 C -0.06632 -0.20855 -0.07796 -0.21919 -0.10157 -0.22612 C -0.12101 -0.24115 -0.14462 -0.2393 -0.16667 -0.24323 C -0.16962 -0.24277 -0.21424 -0.23769 -0.22223 -0.23468 C -0.22674 -0.23306 -0.23039 -0.22821 -0.2349 -0.22612 C -0.24219 -0.22266 -0.24966 -0.21988 -0.25712 -0.2178 C -0.27622 -0.21271 -0.29688 -0.20393 -0.31424 -0.19237 C -0.33091 -0.18127 -0.34584 -0.16416 -0.36355 -0.15653 C -0.37605 -0.13942 -0.38976 -0.12555 -0.40157 -0.10774 C -0.40886 -0.09664 -0.4132 -0.09688 -0.4191 -0.08046 C -0.42709 -0.05849 -0.44306 -0.03537 -0.454 -0.01479 C -0.46233 0.000929999999999999 -0.46997 0.02081 -0.47934 0.03584 C -0.49428 0.05966 -0.50816 0.08971 -0.51754 0.11838 C -0.52778 0.1496 -0.53143 0.18243 -0.53646 0.21549 C -0.53716 0.22914 -0.53785 0.24601 -0.53976 0.25989 C -0.54184 0.27422 -0.54584 0.28786 -0.54757 0.3022 C -0.54862 0.31052 -0.54948 0.32948 -0.554 0.33619 L -0.54914 0.31284 E">
                                      <p:cBhvr>
                                        <p:cTn id="100" dur="13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19341 -0.03353 C -0.20591 -0.07029 -0.22379 -0.10104 -0.23941 -0.13503 C -0.24514 -0.14752 -0.24809 -0.16232 -0.25521 -0.17318 C -0.26893 -0.19399 -0.28143 -0.2155 -0.29497 -0.23654 C -0.31059 -0.26081 -0.32934 -0.2874 -0.35365 -0.29365 C -0.36424 -0.29226 -0.375 -0.29272 -0.38542 -0.28948 C -0.39219 -0.2874 -0.3974 -0.28024 -0.40278 -0.27469 C -0.41945 -0.25758 -0.43542 -0.23885 -0.45209 -0.22174 C -0.46667 -0.20694 -0.48351 -0.19677 -0.49809 -0.18151 C -0.51407 -0.16486 -0.52848 -0.14544 -0.54254 -0.12671 C -0.54705 -0.11445 -0.5507 -0.11607 -0.55677 -0.10544 C -0.56354 -0.09341 -0.56788 -0.07862 -0.57587 -0.06752 C -0.59063 -0.04671 -0.60261 -0.02289 -0.61875 -0.00393 C -0.62969 0.00901 -0.63907 0.02381 -0.65052 0.03607 C -0.65452 0.04023 -0.65348 0.04115 -0.65677 0.0467 C -0.65868 0.04971 -0.6632 0.05526 -0.6632 0.05549 L -0.66476 0.20531 E">
                                      <p:cBhvr>
                                        <p:cTn id="102" dur="14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8.33333E-007 1.50289E-006 C -0.01007 -0.00902 -0.02292 -0.01248 -0.0349 -0.0148 C -0.05486 -0.02358 -0.08351 -0.01757 -0.10156 -0.01688 C -0.11285 -0.01387 -0.12361 -0.00925 -0.1349 -0.00624 C -0.14688 0.00162 -0.15972 0.00809 -0.17136 0.01688 C -0.17795 0.02174 -0.18403 0.02867 -0.19045 0.03399 C -0.19566 0.03838 -0.20191 0.04069 -0.20625 0.04647 C -0.21771 0.06174 -0.2316 0.07376 -0.24288 0.08879 C -0.25243 0.1015 -0.26042 0.11561 -0.27136 0.12694 C -0.28004 0.1489 -0.26806 0.12162 -0.2809 0.14174 C -0.28438 0.14728 -0.28559 0.15491 -0.28889 0.16069 C -0.29028 0.16301 -0.29236 0.16463 -0.29358 0.16717 C -0.31059 0.2 -0.32188 0.23515 -0.3349 0.27075 C -0.33802 0.29503 -0.34531 0.31884 -0.3507 0.34243 C -0.3533 0.35353 -0.3533 0.3637 -0.35712 0.37434 C -0.35955 0.39746 -0.36285 0.41989 -0.36823 0.44185 C -0.37396 0.46543 -0.37656 0.49017 -0.38247 0.51376 C -0.38368 0.52532 -0.38299 0.52624 -0.38577 0.5348 C -0.38768 0.54035 -0.39045 0.54567 -0.39045 0.55191 E">
                                      <p:cBhvr>
                                        <p:cTn id="104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6.38889E-006 4.50867E-006 C -0.01076 -0.00463 -0.01857 -0.00671 -0.0302 -0.00856 C -0.05537 -0.00717 -0.07464 -0.00486 -0.09843 -0.00208 C -0.10364 -0.00069 -0.10902 0.00069 -0.11423 0.00208 C -0.11892 0.00324 -0.12239 0.00902 -0.1269 0.01063 C -0.13055 0.01202 -0.13437 0.01341 -0.13801 0.0148 C -0.14513 0.02081 -0.15312 0.02381 -0.16024 0.02959 C -0.16909 0.03699 -0.17742 0.05087 -0.18732 0.05503 C -0.196 0.07237 -0.18419 0.05063 -0.1953 0.06543 C -0.2026 0.07514 -0.2085 0.0874 -0.21579 0.09734 C -0.21839 0.10682 -0.22412 0.11237 -0.22864 0.12046 C -0.23315 0.12855 -0.23749 0.13665 -0.24287 0.14381 C -0.24392 0.14728 -0.24461 0.15098 -0.246 0.15422 C -0.24878 0.16023 -0.25312 0.16509 -0.25555 0.17133 C -0.26267 0.19029 -0.27221 0.20717 -0.27933 0.22613 C -0.28055 0.22959 -0.28107 0.23353 -0.28246 0.23676 C -0.28367 0.24 -0.28593 0.24231 -0.28732 0.24532 C -0.29027 0.25202 -0.2953 0.26636 -0.2953 0.26636 C -0.29808 0.28509 -0.29548 0.27399 -0.30642 0.29803 C -0.31145 0.31884 -0.31701 0.33642 -0.32534 0.35514 C -0.32742 0.37179 -0.33333 0.3859 -0.33801 0.40162 C -0.33905 0.40509 -0.34131 0.41225 -0.34131 0.41225 C -0.34392 0.43029 -0.34183 0.41942 -0.34912 0.44393 C -0.35242 0.4548 -0.35225 0.46659 -0.35555 0.47769 C -0.3611 0.52324 -0.36944 0.56786 -0.37621 0.61295 C -0.37673 0.62358 -0.3769 0.63422 -0.37777 0.64485 C -0.37846 0.65341 -0.38107 0.66173 -0.38246 0.67006 C -0.38662 0.69364 -0.39201 0.72 -0.39201 0.74405 E">
                                      <p:cBhvr>
                                        <p:cTn id="106" dur="15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project proves that it is possible to make money and have f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uld travel to Beij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do many amazing things, like a trip down the Yangtze River, a tour of the Great Wall and go to the bar 4 time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should pack basics, like black tees and ballet slipp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ial Problem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end of school drawing near, we have been trying to determine what to with our newly minted MBA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considering starting our own company abroad.  However, not surprisingly, we’re short on cas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we must determine the most efficient scouting trip- one with the highest business potential that includes a little fun,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must determin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st efficient destination for a new business prospecting tr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est success potential with the lowest upfront cash outl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o do when we get the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fun, but least expen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o pack to ensure we’re dressed for every event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outfit options without over-packing our suit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1295280"/>
          <a:ext cx="8686800" cy="5454720"/>
        </p:xfrm>
        <a:graphic>
          <a:graphicData uri="http://schemas.openxmlformats.org/drawingml/2006/table">
            <a:tbl>
              <a:tblPr/>
              <a:tblGrid>
                <a:gridCol w="1361880"/>
                <a:gridCol w="1533600"/>
                <a:gridCol w="2287440"/>
                <a:gridCol w="350388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Vari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a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ize the potential of the trip with the lowest airf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 city to vi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ize GDP and ease of starting a 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ize airf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by importanc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ing a business 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fare 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ize the fun we have without going over 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which activities do we partake and how many 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stay under budget of $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fill 5 full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fill days with day activities; nights with nigh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eat 5 lunches and 5 dinn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ize the size &amp; weight of items while packing the most variety of cl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 items we should b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weight cannot exceed 50 lb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ize cannot exceed 6500 cubic in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datory items must be pac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must pack 3-7 items each of: shoes, tops, skirts,/dresses, pants/jean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must bring at least 12 casual items and 6-12 fancy i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 Efficient T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y 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starting a busi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RT 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6400800" cy="2309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76920" y="1447920"/>
            <a:ext cx="3733560" cy="19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useful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were on different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tination Ran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270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rot="10800000">
            <a:off x="533160" y="5486040"/>
            <a:ext cx="1485720" cy="685800"/>
          </a:xfrm>
          <a:prstGeom prst="wedgeRectCallout">
            <a:avLst>
              <a:gd name="adj1" fmla="val -116671"/>
              <a:gd name="adj2" fmla="val 49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2743200" y="2742840"/>
            <a:ext cx="1486080" cy="685800"/>
          </a:xfrm>
          <a:prstGeom prst="wedgeRectCallout">
            <a:avLst>
              <a:gd name="adj1" fmla="val -49148"/>
              <a:gd name="adj2" fmla="val -685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5333760" y="5943240"/>
            <a:ext cx="1485720" cy="685800"/>
          </a:xfrm>
          <a:prstGeom prst="wedgeRectCallout">
            <a:avLst>
              <a:gd name="adj1" fmla="val 102666"/>
              <a:gd name="adj2" fmla="val 438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715000" y="1371240"/>
            <a:ext cx="1486080" cy="685800"/>
          </a:xfrm>
          <a:prstGeom prst="wedgeRectCallout">
            <a:avLst>
              <a:gd name="adj1" fmla="val 104699"/>
              <a:gd name="adj2" fmla="val -272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350532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7467480" y="4723920"/>
            <a:ext cx="1486080" cy="685800"/>
          </a:xfrm>
          <a:prstGeom prst="wedgeRectCallout">
            <a:avLst>
              <a:gd name="adj1" fmla="val 65384"/>
              <a:gd name="adj2" fmla="val 192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295280"/>
            <a:ext cx="76197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 Efficient Cale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4114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ety of fantastic activities (rated on a utility sc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1447920"/>
            <a:ext cx="3733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challen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variety--running &amp; ba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any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22320" y="3489480"/>
            <a:ext cx="572148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Cale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" y="1447920"/>
          <a:ext cx="8610480" cy="30456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371600"/>
                <a:gridCol w="1371600"/>
                <a:gridCol w="1523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tur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3120840" y="1981080"/>
            <a:ext cx="1346760" cy="4726440"/>
            <a:chOff x="3120840" y="1981080"/>
            <a:chExt cx="1346760" cy="472644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3124080" y="3662280"/>
              <a:ext cx="1330560" cy="10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rcRect l="0" t="0" r="0" b="26315"/>
            <a:stretch/>
          </p:blipFill>
          <p:spPr>
            <a:xfrm>
              <a:off x="3257640" y="1981080"/>
              <a:ext cx="108576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rcRect l="0" t="0" r="11118" b="0"/>
            <a:stretch/>
          </p:blipFill>
          <p:spPr>
            <a:xfrm>
              <a:off x="3124080" y="5257800"/>
              <a:ext cx="129564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198960" y="3124080"/>
              <a:ext cx="117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bidden 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0840" y="4830840"/>
              <a:ext cx="134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pensive Lun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42760" y="643104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5360" y="1981080"/>
            <a:ext cx="1346760" cy="4726440"/>
            <a:chOff x="225360" y="1981080"/>
            <a:chExt cx="1346760" cy="4726440"/>
          </a:xfrm>
        </p:grpSpPr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380880" y="1981080"/>
              <a:ext cx="106704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228600" y="5229360"/>
              <a:ext cx="1330200" cy="10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380880" y="3733920"/>
              <a:ext cx="106704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03840" y="3124080"/>
              <a:ext cx="122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licopter To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5360" y="4800600"/>
              <a:ext cx="134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pensive Lun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3240" y="643104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599000" y="1981080"/>
            <a:ext cx="1496880" cy="4726440"/>
            <a:chOff x="4599000" y="1981080"/>
            <a:chExt cx="1496880" cy="4726440"/>
          </a:xfrm>
        </p:grpSpPr>
        <p:pic>
          <p:nvPicPr>
            <p:cNvPr id="130" name="" descr=""/>
            <p:cNvPicPr/>
            <p:nvPr/>
          </p:nvPicPr>
          <p:blipFill>
            <a:blip r:embed="rId7"/>
            <a:stretch/>
          </p:blipFill>
          <p:spPr>
            <a:xfrm>
              <a:off x="4724280" y="3622680"/>
              <a:ext cx="137160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8"/>
            <a:stretch/>
          </p:blipFill>
          <p:spPr>
            <a:xfrm>
              <a:off x="4689360" y="5259240"/>
              <a:ext cx="133056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9"/>
            <a:srcRect l="0" t="0" r="0" b="41973"/>
            <a:stretch/>
          </p:blipFill>
          <p:spPr>
            <a:xfrm>
              <a:off x="4599000" y="1981080"/>
              <a:ext cx="13208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877640" y="312408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eat W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1080" y="4830840"/>
              <a:ext cx="5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un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41800" y="643104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n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602360" y="1981080"/>
            <a:ext cx="1378440" cy="4726440"/>
            <a:chOff x="1602360" y="1981080"/>
            <a:chExt cx="1378440" cy="4726440"/>
          </a:xfrm>
        </p:grpSpPr>
        <p:pic>
          <p:nvPicPr>
            <p:cNvPr id="137" name="" descr=""/>
            <p:cNvPicPr/>
            <p:nvPr/>
          </p:nvPicPr>
          <p:blipFill>
            <a:blip r:embed="rId10"/>
            <a:stretch/>
          </p:blipFill>
          <p:spPr>
            <a:xfrm>
              <a:off x="1905120" y="1981080"/>
              <a:ext cx="106668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1"/>
            <a:stretch/>
          </p:blipFill>
          <p:spPr>
            <a:xfrm>
              <a:off x="1752480" y="3681360"/>
              <a:ext cx="12193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12"/>
            <a:srcRect l="0" t="4817" r="0" b="0"/>
            <a:stretch/>
          </p:blipFill>
          <p:spPr>
            <a:xfrm>
              <a:off x="1636560" y="5257800"/>
              <a:ext cx="1330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070360" y="312408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48840" y="4830840"/>
              <a:ext cx="5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un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2360" y="6431040"/>
              <a:ext cx="137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pensive Din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467480" y="1905120"/>
            <a:ext cx="1447920" cy="4802400"/>
            <a:chOff x="7467480" y="1905120"/>
            <a:chExt cx="1447920" cy="4802400"/>
          </a:xfrm>
        </p:grpSpPr>
        <p:pic>
          <p:nvPicPr>
            <p:cNvPr id="144" name="" descr=""/>
            <p:cNvPicPr/>
            <p:nvPr/>
          </p:nvPicPr>
          <p:blipFill>
            <a:blip r:embed="rId13"/>
            <a:stretch/>
          </p:blipFill>
          <p:spPr>
            <a:xfrm>
              <a:off x="7585200" y="5261040"/>
              <a:ext cx="1330200" cy="106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4"/>
            <a:srcRect l="0" t="0" r="0" b="14086"/>
            <a:stretch/>
          </p:blipFill>
          <p:spPr>
            <a:xfrm>
              <a:off x="7651800" y="1905120"/>
              <a:ext cx="8827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15"/>
            <a:srcRect l="0" t="31116" r="0" b="0"/>
            <a:stretch/>
          </p:blipFill>
          <p:spPr>
            <a:xfrm>
              <a:off x="7467480" y="3581280"/>
              <a:ext cx="131472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709040" y="312408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62480" y="483084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61400" y="643104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n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019920" y="1917720"/>
            <a:ext cx="1487520" cy="4789800"/>
            <a:chOff x="6019920" y="1917720"/>
            <a:chExt cx="1487520" cy="4789800"/>
          </a:xfrm>
        </p:grpSpPr>
        <p:pic>
          <p:nvPicPr>
            <p:cNvPr id="151" name="" descr=""/>
            <p:cNvPicPr/>
            <p:nvPr/>
          </p:nvPicPr>
          <p:blipFill>
            <a:blip r:embed="rId16"/>
            <a:stretch/>
          </p:blipFill>
          <p:spPr>
            <a:xfrm>
              <a:off x="6019920" y="5246640"/>
              <a:ext cx="1487520" cy="10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7"/>
            <a:stretch/>
          </p:blipFill>
          <p:spPr>
            <a:xfrm>
              <a:off x="6095880" y="3657600"/>
              <a:ext cx="1371600" cy="9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8"/>
            <a:srcRect l="0" t="35042" r="0" b="0"/>
            <a:stretch/>
          </p:blipFill>
          <p:spPr>
            <a:xfrm>
              <a:off x="6122880" y="1917720"/>
              <a:ext cx="1192320" cy="11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260400" y="3124080"/>
              <a:ext cx="97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at Cru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89000" y="4830840"/>
              <a:ext cx="5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un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0800" y="643104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n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4:55:25Z</dcterms:created>
  <dc:creator>Clementine Martin</dc:creator>
  <dc:description/>
  <dc:language>en-US</dc:language>
  <cp:lastModifiedBy>Clementine Martin</cp:lastModifiedBy>
  <dcterms:modified xsi:type="dcterms:W3CDTF">2006-12-11T01:11:01Z</dcterms:modified>
  <cp:revision>42</cp:revision>
  <dc:subject/>
  <dc:title>What we learned in business school: How to plan a new business prospecting trip + a vacation in one!</dc:title>
</cp:coreProperties>
</file>